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377-E40E-4657-B691-1C73ED3A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40F4-35A3-4D55-B4DA-ADE4EFB5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0A2E-16B5-41D0-AFDE-D201034E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B50D-E8E9-4FBE-A2A4-E793098D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66D-B459-417C-918A-EE43087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AB4-2C8E-453F-9DBD-4178514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7E98-20A6-4339-8EEA-81A06CC0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408-F841-4053-8299-83924F5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592-0AB6-4AA6-B570-52B95CE3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1B1-D953-4C3A-B991-C142DB8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CF8-9F6F-47B9-944B-DD521BE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1D1-BCAB-45E3-A789-7266280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1387-3598-4E5E-909B-7E384CB6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sorcerers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chamber of sec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prisoner of Azka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goblet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order of the pho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half blood pr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deathly h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3:36:59Z</dcterms:created>
  <dc:creator>Admin</dc:creator>
  <dc:description/>
  <dc:language>en-US</dc:language>
  <cp:lastModifiedBy>Admin</cp:lastModifiedBy>
  <dcterms:modified xsi:type="dcterms:W3CDTF">2009-05-27T00:09:31Z</dcterms:modified>
  <cp:revision>2</cp:revision>
  <dc:subject/>
  <dc:title>greece</dc:title>
</cp:coreProperties>
</file>